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54AA-CCB8-4487-B27E-AFDA4A7FC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29084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8DBF-1E83-4DFD-916D-FA2B0F7A6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0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3D8D-B376-4C4D-B8D2-953DAF2BC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9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0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39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0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0F81-1082-423A-A6DD-0D1049B04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FC1A-5FAE-471C-AA6B-941BE1F1E4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0AC6-7CE3-445C-93C2-0BF8A7D8EE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54DE-BBBB-4F6C-991E-3B0F000AB4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75D4B-E1E0-4910-ACDB-1B39594F31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BB82A-F80E-4C4E-84CE-882B69FABD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1760" y="333360"/>
            <a:ext cx="79246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76006-EAB0-4016-B8B5-1F4EAFD0C0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CBCF-9727-4C0C-94F7-3062209795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A350-D668-42BB-89DA-7D0B57A9A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80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A4777-1B7A-4F36-A3E6-481AF20A25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CBE51-C9AF-48B0-8B24-A8FD7603D2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38080" y="429084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8C63B-C332-4C50-AA8A-609C0BEC45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80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B2F8-58B2-4468-BB1D-55F5E1D422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39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0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38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39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0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59482-8DF7-4228-B50D-B3B7DAC56D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2EA9-0DD4-4A39-B48B-973D7A449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65E8-85A5-4899-B7D6-FF0D64C16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3642-A405-4B7E-B52A-46009A0EB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333360"/>
            <a:ext cx="79246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1F3B-EF98-409F-B0DF-9F92D35DB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F527-307A-4900-BD40-DC95C7C19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0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F286-FF3D-4177-AF57-D52C2605C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6381-533F-4A11-A478-8394679C8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73520" y="2905200"/>
            <a:ext cx="4013280" cy="1844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rmAutofit fontScale="49000"/>
          </a:bodyPr>
          <a:p>
            <a:pPr marL="19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2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3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4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5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6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128520" y="6254280"/>
            <a:ext cx="4809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ffffff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25A5-AA97-4B34-899C-238A0A464A75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979200"/>
            <a:ext cx="8229600" cy="1925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old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8904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46240" indent="-228600">
              <a:spcBef>
                <a:spcPts val="601"/>
              </a:spcBef>
              <a:buClr>
                <a:srgbClr val="003366"/>
              </a:buClr>
              <a:buSzPct val="64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46240" indent="-228600">
              <a:spcBef>
                <a:spcPts val="601"/>
              </a:spcBef>
              <a:buClr>
                <a:srgbClr val="003366"/>
              </a:buClr>
              <a:buSzPct val="64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46240" indent="-228600">
              <a:spcBef>
                <a:spcPts val="601"/>
              </a:spcBef>
              <a:buClr>
                <a:srgbClr val="003366"/>
              </a:buClr>
              <a:buSzPct val="64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ffffff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9E71-B9C0-4926-B382-CBD39390712D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fr/ig/api?weather" TargetMode="Externa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fr/ig/api?weather=orleans,france" TargetMode="External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fr/ig/api?weather=orleans,france" TargetMode="External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248320" y="4889520"/>
              <a:ext cx="2606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4" name=""/>
          <p:cNvSpPr txBox="1"/>
          <p:nvPr/>
        </p:nvSpPr>
        <p:spPr>
          <a:xfrm>
            <a:off x="128520" y="6254280"/>
            <a:ext cx="4809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6C85-709D-44BA-A6AD-01CCE967D9BE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79200"/>
            <a:ext cx="8229600" cy="1925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old"/>
              </a:rPr>
              <a:t>Module GET.METEO.FROM.GOOGLE v1.0</a:t>
            </a:r>
            <a:endParaRPr b="0" lang="en-US" sz="2800" spc="-1" strike="noStrike">
              <a:solidFill>
                <a:srgbClr val="003366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73520" y="2905200"/>
            <a:ext cx="4013280" cy="1844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rmAutofit/>
          </a:bodyPr>
          <a:p>
            <a:pPr marL="3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© 2010 – Cédric Locqueneux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69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72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4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8367-BD41-4BA1-9E12-2D1E82B96A90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Problèmes Connus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ur tout problème, vous pouvez me contacter via le sit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http://www.maison-et-domotique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88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91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0BAC-1593-4018-96BD-840798CBEC57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aractéristiques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élécharger les prévisions météo de Goo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érature Min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érature Max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érature Actu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umidit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nt (Force et Direc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visions du jo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visions à J+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97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00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2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C456-CABD-4505-A4E4-B9A80CB3D9C0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onfiguration requise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e connection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06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09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DECF-5EEF-4620-BE6C-0105E6A03170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Vue Gobale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449520" y="3070080"/>
            <a:ext cx="2665080" cy="1725480"/>
            <a:chOff x="3449520" y="3070080"/>
            <a:chExt cx="2665080" cy="1725480"/>
          </a:xfrm>
        </p:grpSpPr>
        <p:sp>
          <p:nvSpPr>
            <p:cNvPr id="114" name=""/>
            <p:cNvSpPr/>
            <p:nvPr/>
          </p:nvSpPr>
          <p:spPr>
            <a:xfrm>
              <a:off x="3449520" y="3070080"/>
              <a:ext cx="2665080" cy="1725480"/>
            </a:xfrm>
            <a:prstGeom prst="pie">
              <a:avLst/>
            </a:prstGeom>
            <a:solidFill>
              <a:srgbClr val="99cc99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11560" y="3606840"/>
              <a:ext cx="13341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68400" tIns="25560" bIns="25560" anchor="t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 Bold"/>
                  <a:ea typeface="Arial Bold"/>
                </a:rPr>
                <a:t>GET.METEO.FROM.GOOGL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257880" y="2851200"/>
            <a:ext cx="360360" cy="302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635" y="0"/>
                  <a:pt x="10800" y="806"/>
                  <a:pt x="10800" y="1800"/>
                </a:cubicBezTo>
                <a:lnTo>
                  <a:pt x="10800" y="9000"/>
                </a:lnTo>
                <a:cubicBezTo>
                  <a:pt x="10800" y="9994"/>
                  <a:pt x="5965" y="10800"/>
                  <a:pt x="0" y="10800"/>
                </a:cubicBezTo>
                <a:cubicBezTo>
                  <a:pt x="5965" y="10800"/>
                  <a:pt x="10800" y="11606"/>
                  <a:pt x="10800" y="12600"/>
                </a:cubicBezTo>
                <a:lnTo>
                  <a:pt x="10800" y="19800"/>
                </a:lnTo>
                <a:cubicBezTo>
                  <a:pt x="10800" y="20794"/>
                  <a:pt x="15635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6200" y="2637000"/>
            <a:ext cx="223272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Bold"/>
                <a:ea typeface="Arial Bold"/>
              </a:rPr>
              <a:t>En sorti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1 : Min. Tem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2 : Max Tem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3 : Temp Actuel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4 : Humidit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5 : V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6 : Prévisions J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7 : Prévisions J+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8 : Prévisions J+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9 : Prévisions J+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6360" y="5732640"/>
            <a:ext cx="4543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Bold"/>
                <a:ea typeface="Arial Bold"/>
              </a:rPr>
              <a:t>Evènement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élécharger les prévisions toutes les heu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4760" y="1484280"/>
            <a:ext cx="3644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Bold"/>
                <a:ea typeface="Arial Bold"/>
              </a:rPr>
              <a:t>Lien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google.fr/ig/api?weath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560000">
            <a:off x="4527720" y="2201760"/>
            <a:ext cx="720720" cy="792360"/>
          </a:xfrm>
          <a:prstGeom prst="pie">
            <a:avLst/>
          </a:prstGeom>
          <a:solidFill>
            <a:srgbClr val="33cccc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17160" y="2851200"/>
            <a:ext cx="360360" cy="302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635" y="0"/>
                  <a:pt x="10800" y="806"/>
                  <a:pt x="10800" y="1800"/>
                </a:cubicBezTo>
                <a:lnTo>
                  <a:pt x="10800" y="9000"/>
                </a:lnTo>
                <a:cubicBezTo>
                  <a:pt x="10800" y="9994"/>
                  <a:pt x="5965" y="10800"/>
                  <a:pt x="0" y="10800"/>
                </a:cubicBezTo>
                <a:cubicBezTo>
                  <a:pt x="5965" y="10800"/>
                  <a:pt x="10800" y="11606"/>
                  <a:pt x="10800" y="12600"/>
                </a:cubicBezTo>
                <a:lnTo>
                  <a:pt x="10800" y="19800"/>
                </a:lnTo>
                <a:cubicBezTo>
                  <a:pt x="10800" y="20794"/>
                  <a:pt x="15635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781360"/>
            <a:ext cx="1981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Bold"/>
                <a:ea typeface="Arial Bold"/>
              </a:rPr>
              <a:t>En entré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Aucune entrée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24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27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9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BDD6-FF6D-4CC9-8039-76B231E12631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Dernier changements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1.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emière vers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33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36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8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86B8-272F-41AF-BEE4-95F42AB96F87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omment installer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830592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%HOMESEER% est le répertoire de Homese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 défaut C:\Program Files\HomeSeer HSPRO\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ziper dans le répertoire  %HOMESEER%/scripts/modules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diter %HOMESEER%/scripts/startup.t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jouter la commande vbscrip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s.run "modules\GET.METEO.FROM.GOOGLE\scripts\install.vbs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diter les propriété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_??.ini, properties.ini et evt_??.in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oir les 3 prochaines pages pour plus d’inform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mplacer votre ville dans l’adress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oogle.fr/ig/api?weather=orleans,fr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démarrer Homese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s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érifier que des nouveaux devices sont apparus (W41 à W4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érifier que des events GET.METEO.FROM.GOOGLE exist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42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45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7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1BE4-7BAE-4502-A470-3701523A67B8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omment configurer le module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830592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MOD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Quel mode utiliser 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DATABAS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: si vous avez un base de données domotic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STANDALON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: Si vous travaillez sans base de donné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LEVEL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Quel niveau de log voulez vous 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INFORMATIO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ou </a:t>
            </a: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WARNING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ou </a:t>
            </a: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CRITICAL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ou </a:t>
            </a: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SEVE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CONFI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Ou sont les fichiers de configuration 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..\scripts\modules\GET.METEO.FROM.GOOGLE\config\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EVICE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Liste des devic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dev_w41.ini|dev_w42.ini|dev_w43.ini|dev_w44.ini|dev_w45.ini|dev_w46.ini|dev_w47.ini|dev_w48.ini|dev_w49.in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EVENT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Liste des even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evt_getmeteo_every_60min.in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URL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URL pour télécharger les prévis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  <a:hlinkClick r:id="rId1"/>
              </a:rPr>
              <a:t>http://www.google.fr/ig/api?weather=orleans,fran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FILE :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chier pour cacher les informations téléchargé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old"/>
                <a:ea typeface="Arial Bold"/>
              </a:rPr>
              <a:t>C:\Program Files\Homeseer\scripts\modules\GET.METEO.FROM.GOOGLE\tmp\meteo-google.tx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51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54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6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6684-C4FC-4F01-8BC3-B142B6CFD59D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omment configurer les devices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830592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6000"/>
          </a:bodyPr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CAN_DIM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True si le device supporte le DIM X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H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W and </a:t>
            </a: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8 : Code X10 d’Homese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LOCATIO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Homeseer Loc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EV_TYPE_STRI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Homeseer Typ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NAM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Homeseer Na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REF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Device ID Unique d’Homese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STATUS_SUPPOR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True si le device supporte le protocole X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MIS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VALUE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EFAULT_STATU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EFAULT_STRI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Valeur par défau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51320" indent="-2743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??? Est la valeur par défau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EFAULT_VALU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BUTTON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GRAPHIC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PARAM1=TEMP_M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51320" indent="-2743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e module télécharge la météo et assigne la valeur adéquate du parsing au device HC + D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PARAM4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to </a:t>
            </a: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PARAM1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60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63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5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0824-29A4-46FF-8870-C38513C75332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old"/>
              </a:rPr>
              <a:t>Comment configurer les évènements</a:t>
            </a:r>
            <a:endParaRPr b="0" lang="en-US" sz="32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830592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NAME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Nom de l’évène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EVT_ABS_TIME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6 pour un évènement reccur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REC_MIN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Lancer le script toutes les 60 minu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SCRIPT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Script à lanc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GROUP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Groupe pour les évènements (GET.METEO.FROM.GOOGL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 Bold Italic"/>
                <a:ea typeface="Arial Bold Italic"/>
              </a:rPr>
              <a:t>D’autres attributs peuvent être utilisés. Ils sont décrits dans le fichier Homeseer.chm file. Lancer ce fichier, Cliquer sur “Scripts”, Ouvrir “Event Functions”, et lire “GetEvent” func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.</dc:creator>
  <dc:description/>
  <dc:language>en-US</dc:language>
  <cp:lastModifiedBy/>
  <cp:revision>0</cp:revision>
  <dc:subject/>
  <dc:title>Diapositive 1</dc:title>
</cp:coreProperties>
</file>